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004-8191-411A-8A1C-D795278B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4AE-A3B3-4532-88BB-19477B47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99A57-992D-4AA9-8D96-A64CBA92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C3C10-D2F1-452C-BE6E-F14A20C6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3122C-7BC1-4794-A9A4-9DB4E10B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DD402-710C-4FD2-978D-B5D1259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0BF3E-A066-42B0-8462-223A4C0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308EC-2B92-46D3-AB99-16E560F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DE9B0-E1AB-4E37-9585-1FAC1758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F22A5-BF25-4D8D-980E-6947446C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0B2FE-AC5D-4CF1-91F9-F0A7719F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51A5A-C83E-45DC-A465-5A00991D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420-E949-46FD-8CA6-1536CE84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F33F4-0A2F-43E7-9090-18E734A5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C4BFA-8F8E-4C7C-BF6D-52424C92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63127-AEA0-4710-8C37-B32046F3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0FD08-7C6D-4F0F-9EA2-02AF7724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65CDE-A7B6-4EA9-8BCE-BDE4F172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D5240-C54C-454A-B954-BA2CD8C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60640-6809-4927-90B3-BCEFB31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95B46-7DF4-4076-9146-B455B1A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75DC8-74DA-47C0-945A-F27647DF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5D0F9-82F9-4E57-95F1-CB9CEE3D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520-0A9F-4A1F-A0F8-941ACC07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511AA-30AA-4D37-B789-4CB553CA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6A1ED-C741-4816-A3E7-A6574E9E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68B02-74FF-4501-A111-AF5799A1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A19FE-B22C-40E5-9F8D-BA848255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54DAD-1428-4B38-9996-7A87F961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CDD04-065C-46CC-8478-608B731C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0E015-610E-4CEE-90FE-847B698E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FEC1A-FE5C-4D79-A6BF-1BFB470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72C1B-5C33-471A-A4EE-D8BF260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23DAB-2C30-4506-AD4D-BCD26D79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10D9-9183-4E95-87B3-0D4BF68B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DC9D5-B8DB-4D09-B7B7-3D098E52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EEDBF-0DD1-4A30-A3DC-66157083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0276F-A257-4DB5-86DC-110BEE86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7835A-D686-4728-90A3-56E3528B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0E142-3A94-47DE-BA20-FCFBC6F2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5843D-6BEE-4601-AEED-70892195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FB4E5-5012-4E8C-BA73-5AFD0AD3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1F9BF-87AB-41B5-80A7-900CF3F2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16C55-E5C2-4C97-A144-EFA8A220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9C0B5-2092-4ADC-B8A7-F7BED935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9EEA-87F1-4041-BB60-CA24D37F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B99C3-6CE8-44A9-9C1D-5A19DEF9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3E781-7612-477C-8349-0F07FF70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A0011-C824-47D2-8993-D95978FE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F2C1D-6511-494F-AA61-56BEABD7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3D0DF-EC65-4E4F-B578-90A7BC8D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04FC1-9515-438C-B7C8-5C330152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F2ACE-4265-4AAC-A60D-29A85F1D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2B6EB-536E-455D-BD5A-AE4DDF85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65A45-E5F2-40AB-9CD0-3EB46085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242E6-E5D8-42F0-A5D4-2A575025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03AF-A836-4DF8-B448-1D80539C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1EC1C-BEE0-4056-BC38-0E265139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3D47A-6D6B-4B48-879C-BB47854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EEDB3-0AF9-4C5C-A541-EB51B6CA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B68BC-B4FC-44BB-AFFE-97DEF54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812C1-D91E-46A7-AF02-73CA1E63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9A5F9-D8C6-4963-966B-70997558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9CF2D-C78E-47C7-9898-03DAD0D9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5DBE9-69A3-4E58-ABBF-23FA42CE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0F90A-C4A4-4627-8817-46BD1F3B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20FC2-80AA-4FDB-A663-98F3353C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A0DC-51B1-46F8-9DA4-4B87E6A9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B0756-931C-4243-900F-F6B73D3B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501FA-D85C-4C45-BCA0-682898E3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E7B69-59D1-4848-A7C8-B35BEB29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9F065-C302-479F-B49C-7029B539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2D82C-6BB4-4ACF-868B-CC59010D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FA41A-5344-40C2-A714-F8414B78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5FC79-ACFA-4613-B888-0E92DB02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D4EED-A946-4091-8E42-053E0317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070F2-A4B0-4963-B78E-F1D55CCD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A57A6-61BA-4CEF-8D0B-BDE487FD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3E7B-64D1-4933-93E4-D51ACBDF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76E0D2-8D4B-49B8-81D3-9E8F2B1A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0EC1F-EC0F-4FF6-9693-47155C00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AA955-7100-4857-9AF1-B6781867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626AF-80CD-4E77-ACE2-639B56EE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CC88F-2DC5-4B52-AF7D-B31564EC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39D09-E646-474D-AB8B-792A2BB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96858-57D6-4675-8DE8-21C9C30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D61DD-6911-4A41-A56F-FB2E579D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78BEC-0326-4C00-B029-E1298CE4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059E8-B52B-4CD9-9BCE-0FEDE80B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B810-70F6-43FE-BD34-80A15A90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AA681-DC32-474B-91B6-1D9A2CFB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4A0D8-B137-4400-96C9-9F51733E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7E581-38F2-4C3A-83A1-0AAD39B2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BAE5E-085E-4EED-8866-CE163614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55E67-D553-429B-A0DD-8320BE86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7504A-4698-4770-859B-E2C0F67E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B747D-6DCF-4CC7-BB16-11320DB7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54683-B8ED-4BB8-A188-E470B10D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E7F88-6A29-473E-91CB-29706557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565BE-6289-4FEB-99A6-98177B0A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46EE-F29A-4B8B-8358-64C232B2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D36D9-D36E-4CB1-8640-2F8C39E0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A5F52-CF23-4926-A0CE-D4B5A5F9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A352B-4807-40C2-9AD9-3CEA8C1A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EA346-022A-464F-A97F-FE1E9E3E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4ADCA-8CD5-4155-97DA-F1465EEA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5E758-A1E6-404C-BA7B-76029D7D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7DBD7-F6FA-4CC9-BAB7-81DF93D1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FE834-C678-4244-8A2A-1F374194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830DA-AD05-47C8-BA2E-F487F2BC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BB690-FAE7-464D-A770-BF8E6269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A1C-155B-40E2-8813-6F05D7B3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9269-7BCF-49CA-91AE-1C58379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0CE89-180D-4B02-9F35-C3FE07E6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8F3DB-F358-4FE1-AF42-8D7D72A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C6682-7BE5-4CBA-9EEC-347162A2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8EFA3-F815-4888-905F-B3592E72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B2DF0-44C9-4D1F-A1FC-EB38990E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A4201-C7EF-4FE3-A1CB-CAE2393B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35202-85B1-44FE-A9D8-320B7DAE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6DD0D-5509-4776-8AA0-ACBD7EC4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6EFDA-FE8D-4943-A265-EF93C102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04AB5-4282-4E2A-8C15-490106AA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F384-176C-4564-BAA9-0DDE98F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02D7D-2540-4580-A84F-03A84C52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81261-5065-4B3F-87D2-653687A6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75BCE-929F-47B5-B0E5-B8F898BE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FC59D-CC91-4D45-AC7B-D67E1AD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AB46BA-3F4A-4E6C-9DA1-01D8A39A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929A8-7879-47DC-9BE9-3E2FF0FC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5A5A7-5A6C-4FFA-B1AD-1D922BFB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9BFE3-44BC-418B-A8C6-1D1C75F3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7F999-D378-4026-8CC3-EFCFEECE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87B3A-D172-43D7-851A-6AAD06BF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CC9A-C988-4C45-A3A2-BAB125BE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928C0-1581-4B25-B247-B943D13D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7FCF00-BC16-4A92-9ADC-55F4360D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9194A-A189-4AFB-B5D9-8B2EAFF2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08C55-93A7-42DF-A5C8-D1A660B3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F21D4-58FE-4BE7-B58C-0F1B7C89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9C4EE-F439-434A-8D40-F7E2EA6E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4AD8C-00D4-494A-A5A6-8A6BF719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3922A-E21F-4C56-803E-B4D13171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105C4-3C84-456E-8C95-422B2351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712FA-3DA0-47FA-8AE8-427AED98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715E-C710-425C-AF99-099C7242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6FD50E-086D-4471-B8DE-AF28339B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BFB07-6162-4261-8380-46A013BE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6AD71-D111-4B77-A93E-8E79CA09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30F3E-69E1-4807-A697-B2B631C1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FB971-BBF5-42F9-B774-002CBE57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E3E98C-3539-4C92-9215-73F0A316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26EF2-8AC8-431D-8192-3B45F3EA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31F7E-2D62-4C1E-9707-2D4788F6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A8711D-59AF-4FEF-8CAD-E0D0F1F0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5E98B-E918-49F9-AC01-047FCC4E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5D26-6F18-4F07-B474-D90070AA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033C13-7CE8-4E1A-8C4E-D052F06C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CE0BB-10F7-4AE9-9FC0-8DC980F7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7B6B3-284B-44ED-8DB4-FE3B6BC7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5759A1-34F5-43EE-A532-A02190DF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DB8F93-8B0B-42FC-A3A9-30451748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59785E-7E3B-47E2-9E61-C30400EA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144F6E-4300-4465-82F0-793571E3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6EEE5-C4DC-4BF4-8EA7-02896FA5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7AFE31-2C07-428F-8CB0-10EB0DCE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3ACA0B-EE8A-4E0E-843F-5F90227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41B2-B51A-4266-BA81-A5EAE64E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28A760-972C-4A08-96DD-090CEF6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7FBAC-4510-486C-BFC0-2C7A5385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F6FC3-576A-4199-9E31-CF09D78F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4CDB7E-06C5-4A37-A43A-DED964D3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28B3EA-E412-43DE-B701-7A3ACDA1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BB1FAF-6AF0-4FFD-88E8-27C7C139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089648-A493-4B4A-AFC8-13D3B6DD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6E61D1-C643-4261-87F3-D1A2BEED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A071A2-24C5-478C-AEB9-B4B18AB2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F2176D-C011-42F8-A333-9365B0B2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2A40-D202-402D-862F-12E79FD4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2D6654-BBDE-48A5-95FC-0B977BA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B5F104-BDB1-48D5-828E-5DD5E844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44E6BC-4738-48D5-9669-05658FEF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CB97F8-0618-4626-9CA1-346DB220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8D385-44A0-436E-BDEB-F98569D3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CDF409-DC3F-41A6-AC67-6B60D9BF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D9F633-48E1-404C-B056-B576DF3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B3E754-CC62-452F-8C4F-20720155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4E8707-BBB5-4D06-9713-B9A6CF0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DFA4CB-D852-4DF0-822B-9C811B6B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909F-5630-47D9-8739-7956600E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D6DCB4-AC12-44AA-AB51-E31922F6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55EDCC-1FB6-4FD6-A2EC-F0A27B5E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2658CD-D842-4FE0-AEF3-3BD37AA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C2F907-4750-475C-98D3-CF47E994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675372-5230-4111-A9B4-84514D49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F3546-C993-444D-BD6B-D5FDC2A0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A14B73-DFF6-4848-9A7A-8B2D3C24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DD5B-FB42-40B2-A04F-D50EDF78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AEFE-3C45-44F0-BE2B-0EB8BDA4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E4C-0E38-49B9-9538-AE303018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B880-6DD6-4B56-AADB-298F7D88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3FA8-7E01-4A8F-8C17-DD2E01C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9F999-D3C4-46C3-AEC1-201314B0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7C9E-DDAF-407B-89CE-BDEC682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4C30-1E4F-493B-94F7-8410365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A7D7-0F9A-46F7-950E-F234FA20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CFCE-7187-4F7E-BDC5-5FED8255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24AA5-9144-4460-8311-F6B728E1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CF69-FA8F-4C38-8B9F-58370B6D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A372-21DA-4E34-B720-F48FB54B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223-1E8A-4F83-BF94-066C570A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3C862-EB06-4888-B377-DB2B8E52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3924-1293-4602-A0E5-009DAE0F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ADCF-2B44-4D9F-B138-C365FB1B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C1CFD-C5A6-4122-8FBE-B3EE7B8F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D8DE4-C2EF-40F8-85B8-B49EBDBF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BE6F-1AE0-4BD1-9C24-FFAA3C7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1C73-335D-4AA0-B181-92BC7B4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6508-F050-47CE-8D3A-2EDF2124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3B0C-9A43-43F7-9C86-DE5BB6E8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B71C-3746-4C06-963D-AC4CB56E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862-9901-45A2-9A7F-CC518684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AC47A-A7C0-4906-BD2F-9B8FAB84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BBCD-30F3-450F-B4BA-180FFA46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5A6BA-D2ED-4A6F-ADC9-D5B84AE1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1120-96E1-45B7-AE4E-5F1F5A1F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B61F6-34BC-481F-B9C9-13A75CD5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B2290-1324-4866-985E-93BCD91B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18A0-4740-4130-8932-9E240606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1BA1-8487-4AF3-A938-D202627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5C33-F87F-40AB-AA0A-E5B20AA6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786C-737A-45BB-B7AA-21F6A003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FCC-DFE8-4F0C-9E13-0B165A05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0450-02B5-4C5A-BF9B-D68B1CD3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CCB7-43B0-47DA-987F-9702998D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241A1-B6EB-4676-837F-4C45DF21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F5C5B-1DD5-4DAD-A88D-34E423AE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4A8DD-D4D3-48C8-846C-DF7055E7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C6477-563F-4B8A-8640-BD935024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7C596-300E-40B7-8A98-83F6E5FB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29387-F73A-4840-96B5-AE7E435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0A961-10CD-4FBF-BC36-1B722A7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FAA5-C7F4-4693-81F9-58139E2E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3B1-6C8B-4ED5-B736-C2AAA09B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FE0C0-F86D-409C-BB0B-2318EC74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747A5-0924-4023-AF88-42A6F86C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A44DC-2804-4E0C-A393-61D66E4B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22F2F-E7AA-40EF-8EE9-8EE7C5A8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C6D6C-4EF4-42CD-989D-58CC7FB3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8B80-8B8B-4105-A0AB-DC649411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F6CF5-2D8A-426C-B28E-9FB94583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8FEE2-71D4-424B-BE34-9255B74F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252B-6383-4DBD-8119-C7D17A67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E9A54-C7D8-431D-882A-44085092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C4C-B66C-49BF-8106-49EEF15B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ED96A-8CC5-4EE6-ADDF-FF7D151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4D94B-D7D2-4246-BE60-8E572DE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55A4-A146-43A4-9EB8-E87AEBF8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DC4E2-811E-41D6-8CF0-907E6589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D4B01-6863-4A48-8BD2-EFFF6DC7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FC792-DF5C-40B2-B22D-C6EB4364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EBBA-2EF1-419D-B30F-5AD4D2A7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3308B-9EBA-4504-A59F-DC36C348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CEBEB-32EF-4260-B416-CD9D7C33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F03FD-42A4-41C5-B6F9-34C32633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26A-A7AB-4D37-BD28-2E273151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05794-8FAA-44A6-B59F-73896D03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FA956-83FE-45DD-8252-69252BF8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DCC78-48E6-4FF1-8BDE-EEE1F26C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5C8F0-426F-4360-BA13-EEB2525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76495-2F58-4D2B-999B-BBD437B2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3BD04-908A-4CFB-ABB7-A29A8A3B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34711-1EF4-4C2A-B45C-64656657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78B2C-6B47-496D-BBE9-4AD794A4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872CC-F1DD-4BE9-BFB7-2AAC9461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AD00C-959B-4CF9-B2C1-34125496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C6BE-8B5C-4D22-9F36-DCBB7D5569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5F36-B054-4ECB-8065-D18D462176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C10-9E51-4C25-B0F2-313385BDF6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181F-C526-4A53-B68B-89EB9ED06C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C63E-E563-4484-B9E1-95BAB642F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AAD7-916A-4F97-B1AF-8FDE85E9D8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1750-7583-4556-B062-3CA68CEA4B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9DB4-7212-483E-8768-95F5B51D1B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979E-7167-4F71-9201-58661FAD62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401F-229D-45F9-98A5-5C5420A83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BD95-E04C-45B0-BB88-8EF25A1E2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8A57-7C53-47BD-815E-03FB5FC84F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91D2-1FF7-4E84-B881-DD5DE890A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20E6-01E6-47AB-9111-2D12274099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69D-80FF-4245-9142-6CCBD1266B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4B55-2212-4E66-AF05-FD0C4482C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DF97-95A9-41AB-A220-0ABFCA687C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7B55-207B-4FF6-8D8F-3C256DCCB6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9B9E-EEC2-48C4-8AC1-65D3ECA30E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F8DD-FF6E-4495-AFEC-40F211F89A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5A9E-757C-4C96-A77C-BD6E2727C3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8475-1A9D-44BD-9CB8-0FD55739BB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2921-4733-42BA-A1DF-F95ED7459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FA51-FADD-41A7-8B9B-0EDA86E7AB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54A-9BB4-4ADD-BA7B-D7979336B3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7A0B-BF4C-42C7-AFDC-F4DEB2BDEF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9C84-6159-4A0D-8C48-4696CE3EE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5BBE-C174-4BE5-AF1D-6635BBB1FE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A808-0802-422B-9F74-4AD951E77C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39D8-A02C-465F-8FBA-4725EE140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7A08-63D1-4748-BFF8-B39418A945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3D06-0DA8-41A9-93EE-AE9128B135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7ABB-C0EC-45F0-BEEB-02B2BA8A6E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7079-7CC6-4009-AD78-854DC0DFDD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EA48-8D45-4981-A6EC-1D687C093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DA7D-13E0-464F-BD97-7EDB19E5D3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A846-4121-4B11-A03E-AD60BD079F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C7B9-2F1E-4A28-B7D1-B5026F396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D218-FB5D-4E8A-996B-2480AF2EC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03B5-47AB-49B4-BC48-C8003CC97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47A-9C08-418B-A662-FDED62A6CB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D45-0AF3-4260-8E34-7057F6C558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60440" y="3124080"/>
            <a:ext cx="82216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252360" y="1386000"/>
            <a:ext cx="8639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1190520" y="1509840"/>
            <a:ext cx="6762960" cy="3838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116000" y="242100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1042920" y="314172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1116000" y="4797360"/>
            <a:ext cx="66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893960" y="879480"/>
            <a:ext cx="5514840" cy="5819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859280" y="5214960"/>
            <a:ext cx="1152720" cy="6476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788000" y="5935680"/>
            <a:ext cx="1152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704880" y="1662120"/>
            <a:ext cx="7734240" cy="35337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4788000" y="384660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5148360" y="4537080"/>
            <a:ext cx="28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728640" y="1305000"/>
            <a:ext cx="7686720" cy="42480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6372360" y="4911840"/>
            <a:ext cx="151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4200" y="833400"/>
            <a:ext cx="8715600" cy="5791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3132000" y="2290680"/>
            <a:ext cx="1584360" cy="663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3132000" y="3011400"/>
            <a:ext cx="1584360" cy="663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3132000" y="3732120"/>
            <a:ext cx="1584360" cy="663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3132000" y="4437000"/>
            <a:ext cx="1584360" cy="663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3087720" y="5127480"/>
            <a:ext cx="1584360" cy="663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7"/>
          <a:stretch/>
        </p:blipFill>
        <p:spPr>
          <a:xfrm>
            <a:off x="3073320" y="5862600"/>
            <a:ext cx="15843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547640" y="1281240"/>
            <a:ext cx="6048720" cy="4295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5076720" y="126684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5076720" y="273852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5148360" y="347184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5148360" y="414972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5076720" y="4869000"/>
            <a:ext cx="187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43000" y="1438200"/>
            <a:ext cx="8658000" cy="3981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3132000" y="481176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7308720" y="4811760"/>
            <a:ext cx="129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438120" y="746280"/>
            <a:ext cx="8267760" cy="5981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374840" y="1743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2065320" y="1728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2757600" y="1758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566748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6357960" y="1758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7050240" y="178920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8"/>
          <a:stretch/>
        </p:blipFill>
        <p:spPr>
          <a:xfrm>
            <a:off x="7740720" y="1758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9"/>
          <a:stretch/>
        </p:blipFill>
        <p:spPr>
          <a:xfrm>
            <a:off x="1389240" y="43927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0"/>
          <a:stretch/>
        </p:blipFill>
        <p:spPr>
          <a:xfrm>
            <a:off x="2079720" y="4378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1"/>
          <a:stretch/>
        </p:blipFill>
        <p:spPr>
          <a:xfrm>
            <a:off x="2771640" y="4408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2"/>
          <a:stretch/>
        </p:blipFill>
        <p:spPr>
          <a:xfrm>
            <a:off x="2843280" y="26654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3"/>
          <a:stretch/>
        </p:blipFill>
        <p:spPr>
          <a:xfrm>
            <a:off x="5667480" y="4379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4"/>
          <a:stretch/>
        </p:blipFill>
        <p:spPr>
          <a:xfrm>
            <a:off x="635796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5"/>
          <a:stretch/>
        </p:blipFill>
        <p:spPr>
          <a:xfrm>
            <a:off x="7050240" y="43959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16"/>
          <a:stretch/>
        </p:blipFill>
        <p:spPr>
          <a:xfrm>
            <a:off x="774072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7"/>
          <a:stretch/>
        </p:blipFill>
        <p:spPr>
          <a:xfrm>
            <a:off x="6948360" y="267984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8"/>
          <a:stretch/>
        </p:blipFill>
        <p:spPr>
          <a:xfrm>
            <a:off x="2843280" y="530064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9"/>
          <a:stretch/>
        </p:blipFill>
        <p:spPr>
          <a:xfrm>
            <a:off x="2771640" y="607860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0"/>
          <a:stretch/>
        </p:blipFill>
        <p:spPr>
          <a:xfrm>
            <a:off x="7005600" y="527220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1"/>
          <a:stretch/>
        </p:blipFill>
        <p:spPr>
          <a:xfrm>
            <a:off x="6934320" y="604980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42920" y="1752480"/>
            <a:ext cx="8858160" cy="3353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4067280" y="364500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4859280" y="44370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6805440" y="4437000"/>
            <a:ext cx="151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5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